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244E-7C6F-4D95-9CC8-0EC321CE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231-B050-4C92-975F-2AFBC3FB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8A002-1AF5-4067-AE7D-A50BC18C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F99F7-ED2C-42A4-8333-23D16BCE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75E5E-ECEE-4854-A069-9733B59E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AE990-6F86-4986-89B7-DC9B7ED4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49018-7821-4789-976B-313971F5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95CF1-6C2A-4628-B70D-AD76880E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87E24-9881-4C8D-9F1D-ADF1527A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A31B8-18A8-47CF-B698-A0F69C0F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AE5E1-19B8-4704-A7CD-716D2960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2A4AA-09B4-4C9C-BE90-FAA82CFA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625B-C9B4-4C44-9A44-C8E62A1E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BB061-7EB4-4247-B173-50573DB2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A4D20-DF51-446C-B640-D6180ACF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2BCDE-4953-4C1D-9409-5CFE8CEE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3F1F1-14C4-4F37-9AB8-FDE25B90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35075-02CC-4A29-9174-D52AD3E0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D560D-2634-4591-BB38-C14E1D54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13571-2ED5-46C2-9F1F-AD88C747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8B77C-EF65-4250-ADB0-206BCB78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5892E-A82F-45E9-9D91-1A7BFF92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F7A3A-2991-4A33-8436-29AC4269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6275-179D-4C47-94C2-6C1B0C2C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22AA8-A003-48BD-9843-B3D10593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A2C6B-5832-4360-88A9-3189770E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5CE99-E127-4A34-923E-5173EF33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8730C-A8F4-485F-9B36-DC37C30C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21244-031C-482D-A210-D7288FDF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59B0E-BDFF-431B-AE9A-D8A6E436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22AA5-2114-49C3-ABD7-60E163FB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129A0-6A31-4C1D-86B6-08BB43AC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3833B-1A7D-4BF8-B964-358699C8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EB78E-4BAB-4398-8B12-DDF1CA92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0B55-0212-4CBC-BE61-8E42DE57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63E2E-F9A9-45F6-AB28-57C8ACCB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BADAD-727E-4D03-9FF5-E3CDC651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FF40C-C57E-4AE5-A5B9-ABDC17A0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BFCC8-22FB-4950-A3C0-4F2143A7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B67E0-A94B-4279-81F4-A2B06416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577F1-EF05-4D45-A533-A4320802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2B2ED-D5C1-42BA-9C3C-C4432EDE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E661B-658D-4131-9D1A-2C02956F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20552-CFC4-46EB-8AB2-AE4C8A62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39E28-1C5A-4C01-8ABB-127E6DEC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C533-880D-4E47-9A1B-7E917DCB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9FA96-9ED0-4287-B1B1-D9F88A90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84CCE-CB4C-416A-8AE6-BC5775BB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442FB-C75A-43FC-BC92-C09A2640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7F9FB-10E0-4969-95FE-B355FE55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4D758-C4B9-4619-BF7C-F8290F68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AACB-34F7-4268-AA28-47F8B398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3986-05E0-485A-B9D5-B95559D5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DA87-18AC-478E-9105-0FAC2E74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9546-7191-45E0-8BE7-B1EEF8B2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CB3F-86BE-407D-B1FD-C55BCDAE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E6B-B849-4AD4-AD8F-7543FCBF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7FDD-A697-4E87-9FD0-33CE88D9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B860-014D-4E89-8D41-36F63431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8B02-60D7-449F-B645-6C038E68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E39E-B8C6-446F-A442-07EEFE60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DAB4-4692-4EC0-A168-8A09FEFA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89ADD-509A-4489-BA7A-EA1998ED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C2B9C-5CA0-40AC-978C-296FA1E4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92842-65F1-43DA-ACF2-C32CB555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2CDA8-9407-4CA9-B9E5-61885BC4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32725-691F-45CE-B0B2-1535D90B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61A-0392-42A1-9378-C099D3A6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55D2D-B3D3-491E-91B1-71458A92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93EAC-5A43-441A-A9C0-C720A4CA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26E1E-E485-4B5E-9CB3-66A99030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04981-3982-4DEE-9DD1-B806055A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3CBA8-1408-4131-BE38-7F8ED8FB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ABDCD-F2A2-498D-B1C7-32BC1F34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FF0BB-F971-4AE0-A4FA-B7C94904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2920D-010E-4819-A3B4-DBEF23B9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0FCB7-49A3-4A20-86EF-5C867148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79E50-A78B-4677-A084-F15165C6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C75-0D07-4AC5-9168-6F510436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BCB03-8B0C-4F97-B526-AFEF819B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002BC-94E1-4E1E-B36E-B0EE9D0B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0FCF0-B84F-4590-9B14-F28EC9AD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D06A7-68BE-43D8-AA62-33F9D0DA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ACAB5-BBD9-43B0-8B5B-0C98E843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94E7C-9A1F-494E-ABD8-A6D81526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12410-7F76-4724-8ED9-BA137267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CD17E-F30E-4969-8195-9CF84E80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AD1C7-BE8F-4B07-AD68-E0E942D4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2B5E3-767A-43B3-9806-C73FB2E9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29BA-1069-4C74-B5AC-A5DC72B5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6E632-8F60-49E3-9A83-CB0F049F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A73CE-11BD-45A9-8BF4-F9DCCA17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46E91-DD92-4F9C-957D-0F859D73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71AFD-1620-430D-88D6-DB444154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36F45-A664-449A-A1D5-EDCE1BBA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4587C-35B1-4339-ADE2-609A88A9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5772F-E20B-4463-A1D7-CDB651D7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02902-6EC7-44EF-A466-74EC77C2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0E972-1BC7-46C2-B849-C0A2BA92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CFE1F-3724-421B-998F-DFAD95BC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4A3-0814-4257-8832-056DD808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DF92E-356D-4DAB-BFF5-053CD250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FD0AF-1FB7-489C-93EB-6FA4D00C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66F9F-F485-424C-9B12-EA38A529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6B6B3-CD28-4AD7-9F83-1DD0D971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F633D-5C28-4461-BDDC-7A65A43D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2B6DD-9E78-4466-933C-68471402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D7279-9688-4371-A4EE-6AF3D2DF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C8D86-B628-4F83-9FD0-65DD5D1A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DABB3-AF3D-4298-BEB4-FAF17CB0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4EEEE-2A60-4AE0-B580-278FEDCD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9791-AE33-4D19-9171-F043478E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8EE24-839D-4FCE-BC27-654D7398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65FD2-8E46-47D5-A35D-325AB70E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C5406-9A63-4E78-B72C-09CF1E63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06CB1-4706-41E8-825D-A509C6FF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F57F3-F76B-4318-9D04-35C4ED99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37791-A05F-42EE-9357-A6FDD228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5852E-387B-4D35-95DC-28F665D2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27F68-64EB-453A-8078-E0B19C37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5822A-7A9C-442E-BF70-C434B2C3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89DE8-A56D-48D4-B8FF-344DAB9B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AEF-1078-4E49-9C70-0252E31D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C4666-F68C-4472-8D32-CA70468B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8F849-B421-4997-B438-F7955838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F908C-6992-4B42-9525-5CC146AF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8BDC4-A358-4946-AF72-5679013C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043EA-D077-4573-88EE-21DDC59A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43DC8-A395-4DA5-99EA-7F337984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DFAFE-E225-4885-984C-6DAFF68B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544F2-3A90-4C4C-9E2E-10B463E2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9E43B-0325-4EFA-B31B-620319BF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91FFF-806A-4BC3-9928-6A1C725B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DD10-132A-4B52-9559-41D59F5C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8EABF-4D39-4397-BA9B-67D555A5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07AAD-8A00-4018-8B50-CD5CA453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309B8-96BD-449C-9B56-504F748E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DFBBF-06D7-4565-A55A-301F402F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50448-CF85-43BF-AFB4-B7E43C81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1AD93-0B94-4408-AB16-BC3BE931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3D426-DB91-4D15-9FF2-CB8CF3D0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5A816-5499-40C5-B53B-EEA5FA6B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A26BC-23D5-4819-98ED-89B577EC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E2DFE-3183-4468-9732-04265405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4B80-EF65-417E-95BF-860953537B0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3607-BB5F-48EF-BA6A-AB19FE88078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47A7-4767-4BB8-9C36-51112DD3577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7A19-D7B8-4FBA-A400-C5DD2E1E441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C99F-115E-457C-8EE0-52482E96FEB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9A9D-1CF6-4179-A7A9-019D9012231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712A-3A4B-47C0-8A3C-356F19D478E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EE08-63CB-44ED-80E1-76391D87E79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5EE8-2A24-4CC4-891F-23D2BF8FF16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6046-1E62-48F0-9DB4-678EF8DCCDA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04D9-0958-44D0-ACF2-CE48D3F1F1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1AF6-3891-4BB3-A876-C0910404D0F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30 Posielam vá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ielam vás do sveta noci chladn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áhať biednym, chorým, strápeným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moja lásk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rdciach vašich vlád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ielam v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ť nádej strate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ielam vás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víťazí nad hriech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vaha vier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avdy mocná zbra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balzam Slo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jivým je lieko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ielam v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, Radca váš a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ielam vás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slabých svojou moc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ilním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m žitiu jasný cie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íťaziť môže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nad smrti nocou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ielam vás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áš Kráľ a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ielam v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vaša verná lás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ým je znám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vami som, váš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mena slávn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 práci už čaká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ielam vás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pokoj dávam v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5:45:21Z</dcterms:modified>
  <cp:revision>34</cp:revision>
  <dc:subject/>
  <dc:title>Je veľký náš Pán, on slávy je Kráľ Nech do všetkých strán  spev vrúcnych znie chvál.</dc:title>
</cp:coreProperties>
</file>